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502-142B-4850-BDB4-2DC9AD03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1C6-26E9-4462-9DD2-C13EA51E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D54EF-BBCE-434E-A6A5-BF8772FD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4500B-27EC-4BFA-B7A8-AD878725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6F08A-C2E8-4D86-BEC7-ED89478D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79A37-0B7E-42EC-9881-872D859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A6B8A-7131-4FBA-961C-6D942E0A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82D1D-F19A-451D-B79A-C65990DD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94C9E-2B69-4726-8959-D7FD082D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C3B51-86B0-4A94-953B-06B17C1D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19776-7792-4260-8BD5-BBD7AF8B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6DB83-250D-42D8-A373-7447D50E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A5D-DEF6-43FC-B7F7-C66D3E82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A86D0-BB3A-4060-A97F-D6E4126E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DE24C-AD52-4897-BD2E-906ACD92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C9A63-A138-42BA-A257-44C716D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B2BD8-614A-4C03-9943-D4694EE6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7F4EC-9AB8-4267-B52C-B400F384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470BA-B391-4965-8CEB-69174970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3A6E8-2EE2-4A2E-8DD9-66A62618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7D7FF-1C52-4BCA-B78B-2CDB706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B95C7-F614-4446-BEED-799B3848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19D48-D73C-4BF2-A771-6A5D2233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30E-CFBB-4369-8728-9CAA8086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B3BE4-2ABA-4F11-A9AC-B15AA91B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F2644-BDEC-4E8B-81CE-67A7FDCE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92F4C-DB32-4F48-9892-CF2CD4F2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C1DC6-11BE-4C72-BBBD-002C1A23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D0297-903B-484F-B64A-B457DAE4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C24CA-5711-4DE3-BA76-0FA7AE1D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8B707-392D-4C2F-83CA-D7A1E6BE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974AC-9950-463E-8147-5B9413FF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A4938-0A34-40DE-8793-CDE37CB4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1C131-C603-464D-BE32-464A3E33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4236-2836-4E6C-9848-D004978C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80789-DB2C-4566-9E91-1867C9CD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A4D61-A034-4D85-8A6B-48DA159F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ADC31-8562-4592-A190-CA525D88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3ED51-7B4D-40B4-955C-C6FFD4D2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2650D-5EE8-458D-AC1E-B33DA23D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B9DB7-1A52-4302-AFB4-19E5074E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A4322-16A5-49C4-B068-45E3A25E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3A171-1BE3-4C1F-A7E7-D95A5240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3C111-9CAD-45E5-A566-5990AD64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DD58A-FDB2-4FE3-87F7-527778B6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CB70-AA12-4FAD-93A6-4D97003A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60C07-415C-4EDE-8A9A-5A1B7112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A87B6-9F15-4A26-9258-98F11D2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7D28A-FC16-4505-A202-F4CF82B3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48B7B-BCDC-47AD-A434-69FE0785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2D966-88D6-4E69-9CF8-E9D86D62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3B207-4E39-4EA7-99F3-32E51529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76226-7605-4E66-B4F6-7991A7AA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BC98E-B5DD-4ED9-9057-F2E9E753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21703-5F38-4F92-AAD4-1070DF41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A8D82-3FD5-449C-A02D-3F6562E6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6513-A02E-42A5-9B1C-89179C07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810B1-BE66-47B7-9016-AA1B50F6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C249C-38F3-4173-BAAB-273D11E6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22FF1-6441-4A81-BB46-26E8AA89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C251F-12BF-4399-86C3-1E77D299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1D2C7-A73F-45F7-95CA-EEEF62A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5EB8F-15DD-4287-B9BB-F0C5D3EC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6410E-EA00-44BD-917B-D7AB5BDC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39F03-63B1-46E6-8F07-20B92339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827F7-61ED-46E4-AA7C-C2E3B893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66B12-811E-4517-9DB5-9112F36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1E89-C1C7-415E-AC45-E1A2E1D4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A04B0-DB36-474E-92B9-F5139D3B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0B507-F086-4F53-8483-D7CF6E27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03246-0286-4FFD-8D07-FA67D4DD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D9E91-5BC8-4C8B-AE36-1348EED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9A7A4-9DD6-4950-8DCB-4F47512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020DD-13ED-4C30-92A6-73EE31F3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4EAB7-7497-4529-94D8-4FE8158B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475ED-E46A-4539-BF59-9248CB46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6558E-636D-432B-B685-2A86033E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F4B13-612F-4736-960E-BA528183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71BD-6960-47E9-B42F-AC07070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B07DA-9324-4BE9-B7E6-95DD1E6D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FE87A-EF80-488C-9EA2-5716B6F4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913E8-8FA1-455D-8363-0FB2A08C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1508F-8262-4E18-AF36-24780DBF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635E3-845B-4D8C-9280-82931354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444D3-169D-4EB2-A365-EFC59D4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BF2E1-2E70-40B5-9F78-1DF3D84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4CC15-5572-41E3-AAF6-D9C4720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8D12C-44CB-469E-B5B2-6EF39EAE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3A710-AD50-49EA-BBCF-04FD6B45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5039-A53F-4215-B5D7-5DF2FFAF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9259D-699A-4CF1-A12F-12ED0F61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AB668-27AE-42FE-80F6-043CB396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7ABE8-2AC2-423B-A392-9F5508E0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1EE4E-BAC4-4314-91A9-BC96B68C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85BBF-B055-417B-BA35-2DEAC584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9425D-CA89-4625-834C-ACCAE818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15322-8EC2-4C99-9F3B-ECE3400C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E1AB4-CECF-45A1-B4BD-76196076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208F2-C0B1-4693-B291-ACE93B9C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19EDB-952C-4D47-8F1D-DEA58E4A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CDDF-DDC9-4A93-AC35-37D77CE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6D624-33A6-4FFF-9539-BDF9BC22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B0CAA-4BF7-4C0E-8080-36366D84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386AD9-692B-4F90-A62F-32860C3F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60C48-5889-4881-990D-55F424F2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8CD6C-D334-4947-B500-7FFA924A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7E421-06CA-49AD-8203-FE17B432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ADEC8-4D3F-4ADF-A09D-0A91AFBE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A805B-56E6-4163-B60A-17612566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7D843-860D-416E-9209-546E9319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E7CD2-7F89-4DA1-84FE-A542A7F4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5C4-307C-42AB-98EC-633A8677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D052-9AD6-42D3-B5B8-46C4DF1C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FC65D-0B03-4B79-A98C-8A8D6ED3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785B1-4679-4F70-B47A-80C33724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9FF41-8E61-4B6E-A95F-B387B3BE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B2C16-8A42-4A10-BC16-3054B613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DDDC4-49FE-4D40-A88C-E626B2CC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CF120-3C21-4851-AA81-C6206823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5275B-FE35-4A25-B8C8-BC7F3209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938A5-0897-42C6-B2FF-7D0C9015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5E6E2-09A3-4F7B-B809-C04833BC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CB7CD-6BD7-46CB-B3F1-2D52AEE2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019E-EB1F-49CC-A798-F5856614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6FA11-5CFD-42D6-BD42-5366E9B2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7F076-E157-4422-BCDA-B1D0DC51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90B46-C669-4799-A30D-B3A0F5F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E28E1-653C-4C22-A14D-070C90F0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284AEB-E631-453F-B42E-2720889F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77ACE-39D0-4DA6-8540-153FBC72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349A8-14E9-4547-9526-DA1658CC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988653-F9FB-452C-A0D7-184CFAFE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67328-ACCA-4CBA-B267-C3424619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5D87D-ACC3-4BF8-9016-0D121154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C09F-CF28-4E61-B355-8FDAEC08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5F744-3D27-49F6-ABC5-BC0F2A75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F30303-CF9B-4BE8-BF74-6E1E28CA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EE9D54-038F-4555-9690-3C20358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6A89E-D5F3-48DD-BAF3-F797BA26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A51A4-4DAE-46F2-83D3-B939D4A5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B69C1D-E785-48AA-9A02-51237FF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D4D38-4F9B-4B60-8123-26F3AFCA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CAB8A-680F-43DB-9A38-2028884F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EE2F2-CEDE-436A-8E1C-8B7B11E7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4EA30-403F-460E-AE34-A7649468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F46F-C92D-4EA9-B5E3-3CAC09B7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E1243-7849-4D5C-953B-10C3FE55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8C56D-4B8A-4FAF-AFB9-5F60625F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83542F-4826-4F68-A11C-F7F45AA6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FA094-0495-42A7-A1D7-0108FF91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6266C-59C2-4A3E-9168-7D9B5079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ABCB6-E84F-4DDA-A1D7-60F1D001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6B824-3BD8-48BF-A007-242D1889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362B0-F049-4145-A1B8-91EB087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76D6A-4290-42BA-91AF-9FB06331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2EA82-22D1-43FE-A5B3-F11E23AC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93A4-D628-4317-B0FE-9574E73A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A54D92-AA32-40CF-9370-F8AB7012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956230-057A-4409-AF83-4BBFB3E1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0D9C19-B3D7-4EF6-8D53-8350F548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C30C5C-D239-4621-99CA-6D76EBB7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09C3D-F64A-4ECD-947E-25627651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122E23-C04F-47E2-ADBE-E758969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3E5F2F-27F1-45D5-BD90-401EE158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B8D788-2588-48CD-A24B-8CF1155D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EAAF0-4CD9-49A6-9B64-AF6C5B0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D8A5C-DCE0-4CDC-8D42-9372DE05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64F4-069E-49AC-96C0-7B7F72C9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1775F-47C1-4283-B805-B15AAC4A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4A583-8B95-4196-8302-EF8DE295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450BE4-4BDB-4064-8E6A-A87EB084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587B-00B8-43FF-8351-04D07E84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236B-F492-48D1-A4B2-43C8ECD4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64BE-BE7C-4870-8170-AB9B5EE3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0950-A307-4BC2-B320-6204062E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11E-02ED-4DD1-B126-05FF5CED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49B2-9C82-41A3-B2A5-A7E11A15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1A41-2621-4A46-B6D0-4D0ED7A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C94F0-628E-47DC-9E9C-684CADE0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B4F9-11C1-412F-A942-18152F5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2BD5E-8D10-4B79-A467-725FF886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8803-04FE-49B9-9E86-010BF427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A67F-86BF-4724-AC78-F6117A79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1398-0597-46CB-BFDA-08408BA5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6007-975D-4552-B869-81DC005A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67B0-4C63-4658-9574-BCBB00D0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245-38C2-4A31-812F-00C052E2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B2293-F64A-4EFC-84D6-BA25D41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82DD-E17B-4B52-8B7E-72A1C6E6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F6AF-3BA5-4785-AC78-8B529597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9C29-0253-4381-9100-257E2765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F5EA-7B56-4982-A943-E9672E41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E3CF-5092-4F4D-8D80-DDB28C1F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CED1-A6C5-407A-B0C3-18889122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5330-E365-44BB-9E8E-4C9A15AD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7103C-97EF-4B74-B21E-F76A9F68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D5EC-F00C-4EAA-813F-FB96636A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DC6-A011-4A2B-9C9A-B5CDAF01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B05A1-1CA1-4BDB-9627-544FFBBF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5739E-C0DD-40D0-9833-DA40CC18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0EA66-F908-4BB3-82B7-E084B95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82E5-B111-48C2-A1EC-19AC2561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AEA0-4234-48E2-A322-26D6EB5A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2E26-E253-44AB-91E2-85DB94DE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EC339-49EE-499D-900E-9965748B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BDEA4-3597-4927-A10E-A0C1E5E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8EC9C-7730-45DE-88FA-BECA1C7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330E-33F6-4C1E-A20D-F3D23062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67B-3B0C-4086-A985-2867D776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FDD0-D7C7-46DD-8543-64A6E364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0B70-42C2-42A4-AF69-8C793016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D5715-2BA6-41B1-8D1A-A7887E9F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04F2-5E4D-4F64-AA55-DE655D63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6C10-379B-4E90-BF1A-77B058B1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4E15E-79CB-45A4-BC20-C65B6F91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671F-5EE7-4797-8B96-C84C0E4A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D241A-F5F8-426D-9C16-71A02F22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51D7-18CB-423A-853F-754DFB4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28350-3EE7-4DEE-A495-FCDF5D2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6A6-A985-4806-BBF5-083AF25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E20B9-E6A4-4455-AB14-06DEE488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96D74-1BD1-41E2-A4BD-40ED76D6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BE7A4-9898-469F-B021-45AB0973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DD0DF-820D-404F-9748-C075930B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431A5-672B-4F08-99AE-376CC57E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4ED4C-74FC-47F1-8C65-10D3774C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B9C5C-3563-4121-B6A0-E32E0EAF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443C3-CCF0-458E-8FB0-F03841B0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51365-5523-4864-A9EF-FE3EFB8E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CA59-0433-4E27-86D6-1F0EFFEC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1C4-AF6B-4168-B799-0D90CD0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59900-E00F-45C1-8107-080496AE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8F1A5-A546-4B53-A945-85FBF15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2CBC0-B3C4-4872-BFEA-CBE8FFEF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EDD8E-1C6F-4F54-9461-A221F8E0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6A337-55A9-488C-A9F4-D5BC53C1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DA414-1F15-4A08-A1EC-194F516B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24431-8FCD-41A2-96A6-74AE45B4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6BF38-3955-44CB-A8B5-21C8F44A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8B07E-BD21-48EC-9D84-6BCBC7D9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941A3-9AE0-47DE-866B-5E99907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762-F718-4958-B6D5-4F1EB5D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0B1E7-29A0-4FF9-96D5-5477AD25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B6125-181F-46DC-886C-52560E82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0A5A7-C1EC-4228-8CD8-10E5508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1DC2-CAC5-448B-B1F8-D115942B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F64A0-4D41-49F3-B428-B8BCB25F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14825-C428-4268-B98D-A57109CE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687BE-39C4-4F3B-893D-08F1520B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A3662-507D-41C7-B1D0-179A4BD9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7684C-C36D-4F62-9F98-53FF8E38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FBF86-BBA5-49BA-A73C-5E93AD36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DBEA-8EDB-4587-8F09-4C0F1A67D5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281D-4925-4495-A8B0-66F1821E4E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B49D-4A96-4028-AFAC-37A8327CAE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53D2-1E54-4B35-8256-7C87EF687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CAEC-D0A2-47EF-9553-12D4C6D1F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2046-0076-4DBD-9112-5612BFEF6A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9E1E-75B0-469F-923F-F7DECFB29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D339-AB3F-4452-82E6-35EC85BD4C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5362-02AA-4F91-B894-8B2BE8281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B94D-C6D2-4D43-AD51-4EEBE37AB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F504-A86F-4412-A3CE-339AABD466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6772-138F-410F-96BD-A59A8565B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1BF6-EA85-4FED-B5FA-6603B1A658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AD46-5097-4D1F-8D9C-25346B1119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4FCA-31E1-4931-B864-ABD781DD7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6D23-7DD0-48D4-BE66-20692F31F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2DD-5B7A-4151-9B4E-FF4186C1E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A94E-4C3F-428A-AC61-D60D5A424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0093-8585-494B-94DB-4AA5ECB20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D79C-16E2-4963-BC1D-4F17DF953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C4B6-B328-43C9-B5DA-C7EF9F169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F7A2-60C9-479F-B6F9-036C6965B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9DB8-800B-4AFE-9F95-42C32B4FCD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FAAF-CBA0-4E5A-BA7F-C3F85A5C9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B4AC-25BA-46B5-A62D-DAF9A87331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58E1-5319-43F0-8340-DD5D99301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40FF-3BA8-47A2-923B-498621883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80E4-6BFB-4884-8DC0-D9BE725DD8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E080-C45B-43F5-B96B-DC10166699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AB42-F27E-46E1-87D2-73289F73BD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E4BA-D86E-4453-B87C-DCA606E804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D936-44BB-44C4-A923-C296450E7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1A11-5B8B-4CBB-900A-93C9985FF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DD8F-090F-48F9-AC33-E2C937CAC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54B2-7BF0-4CD1-85B6-9B5AC72300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12D1-816F-40C5-87F8-529C5FE999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ADD1-DC3A-4921-87ED-71AE68E9A7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631D-ACB2-4FF0-8057-3944556F54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7757-6E8B-48C9-A500-B9538D6F7B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50E8-016F-40A9-A4B9-0965CE5660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43080" y="1916280"/>
            <a:ext cx="8458200" cy="7524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62280" y="3338640"/>
            <a:ext cx="36194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69633" descr=""/>
          <p:cNvPicPr/>
          <p:nvPr/>
        </p:nvPicPr>
        <p:blipFill>
          <a:blip r:embed="rId1"/>
          <a:stretch/>
        </p:blipFill>
        <p:spPr>
          <a:xfrm>
            <a:off x="657360" y="879480"/>
            <a:ext cx="7829280" cy="5429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4932360" y="331488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4932360" y="410544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4024440" y="410544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3146400" y="40910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4052880" y="498492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3174840" y="4970520"/>
            <a:ext cx="5032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68609" descr=""/>
          <p:cNvPicPr/>
          <p:nvPr/>
        </p:nvPicPr>
        <p:blipFill>
          <a:blip r:embed="rId1"/>
          <a:stretch/>
        </p:blipFill>
        <p:spPr>
          <a:xfrm>
            <a:off x="1886040" y="1785960"/>
            <a:ext cx="5371920" cy="32860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432000" cy="4330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3"/>
          <a:stretch/>
        </p:blipFill>
        <p:spPr>
          <a:xfrm>
            <a:off x="2916360" y="2637000"/>
            <a:ext cx="431640" cy="4330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4"/>
          <a:stretch/>
        </p:blipFill>
        <p:spPr>
          <a:xfrm>
            <a:off x="4054320" y="265104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5"/>
          <a:stretch/>
        </p:blipFill>
        <p:spPr>
          <a:xfrm>
            <a:off x="4932360" y="265104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6"/>
          <a:stretch/>
        </p:blipFill>
        <p:spPr>
          <a:xfrm>
            <a:off x="5810400" y="266544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7"/>
          <a:stretch/>
        </p:blipFill>
        <p:spPr>
          <a:xfrm>
            <a:off x="4932360" y="3529080"/>
            <a:ext cx="4316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685800" y="942840"/>
            <a:ext cx="7772400" cy="5581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763640" y="22194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340000" y="328464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932360" y="22194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5580000" y="328464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824440" y="501336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4572000" y="54878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588000" y="54878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4960800" y="5891040"/>
            <a:ext cx="576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600120" y="1490760"/>
            <a:ext cx="7943760" cy="3876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576000" cy="4334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556000" y="3832200"/>
            <a:ext cx="576000" cy="4334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443640" y="38322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2556000" y="4869000"/>
            <a:ext cx="576000" cy="4330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6443640" y="4869000"/>
            <a:ext cx="57636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423720" y="1290600"/>
            <a:ext cx="8296560" cy="42768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3635280" y="484020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885080" y="4854600"/>
            <a:ext cx="504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547560" y="955800"/>
            <a:ext cx="8048880" cy="5352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3247920" y="34574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380360" y="34574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3564000" y="50990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3132000" y="558972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5724360" y="5560920"/>
            <a:ext cx="5032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423720" y="1562040"/>
            <a:ext cx="8296560" cy="373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3024360" cy="23767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2771640" y="254952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5435640" y="315612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6730920" y="2492280"/>
            <a:ext cx="21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743040" y="2014560"/>
            <a:ext cx="7657920" cy="2828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3024360" cy="2376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411280" y="204480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5062680" y="270828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6357960" y="2044800"/>
            <a:ext cx="21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647640" y="1905120"/>
            <a:ext cx="7848720" cy="3047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258920" y="270828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2554200" y="204480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5148360" y="270828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6443640" y="2044800"/>
            <a:ext cx="21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128520" y="1938240"/>
            <a:ext cx="8886960" cy="2981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798480" y="3557520"/>
            <a:ext cx="6697800" cy="4334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826920" y="4221000"/>
            <a:ext cx="66978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53:0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